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29650-FBDA-4325-81B6-E6C9CD4317E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značba mest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5643B-C432-4DAC-BCE6-9D1DA0B059D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Označba mest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DF58F-2CA2-465E-AF0A-B5570969CC63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125F5-4213-4566-9AF6-06B2D986A3D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Označba mest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DAE21-2E75-44A6-A624-1246FBB7A7BF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C2AE3-F6D2-4AC2-8CE5-6FCDB18E913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značba mest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A235C-7225-4E38-869A-C292A5F021D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3EE48-372F-41EC-933D-929CE3636AE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90D8A-8842-4FFA-9D62-45FF34662D1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6D8-462D-43F2-8E08-EA10C12F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92F-08CD-41AC-B1ED-3F3CA05E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A7779-86AB-46F6-8A88-38B3F116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ACD5A-453D-4EE7-8CCD-8F50E92E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3C694-076A-4FB0-9AF0-85BB9D9A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E14DF-6CD1-4A9D-A20F-8312FE1D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AC26A-FE95-45C0-B5C4-FF3026D1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C76C6-A57E-4475-A2A0-163F5B9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3B896-27F6-403F-B5B7-8257FB30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427A8-042A-40DA-913C-F6883F83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54045-6549-4C7D-83A0-358E522C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89B52-3B8B-40A7-9027-8C0892EE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056-E75B-44AA-8F93-8F35D889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97FE6-6F41-47EB-AE50-4E885199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36606-ED33-484B-9539-35802B29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3D70D-44A2-4A3E-A588-45835E78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34071-655E-4E94-80B9-DBD05E63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E39DA-F79C-47E5-8B49-65D7B296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3636F-B859-4ABC-B022-1609138B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14DD4-6D3F-4747-BC22-191CDDEF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CC093-29DE-41F1-BB50-5F45E927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CFEC5-C8E3-40D4-91B7-110930B8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0A431-4699-4C51-8FB0-E9FD03E5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68D-2712-4F09-902D-CBAD8A3F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3660D-9BE3-4BA4-B68C-675CFF23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A528B-3457-4CDA-8EB3-8D9D5EA5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D0CF0-C6E8-4B9B-8537-3EF1F1D9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C474F-4212-44DB-A9D0-A44A5301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82F8C-21E5-4A8F-958B-1779CBE2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90935-20F1-460E-9D47-E10924D8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A8B0B-3867-4642-AAA2-28A2AA89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D7207-061D-4E62-B58E-B89C9C30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4D9DE-73BE-4CC1-9EAC-AEAA9B0D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696FE-B978-427F-9F21-5A60E8C7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70A6-2A22-406E-81AF-2C883E77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5138C-FD6C-46F4-90A8-DFD344D9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E95D3-FCB8-48D0-8FF0-6FA25D78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3907F-E449-4DE4-ABBD-7D53D5F0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9C7E-431D-4B0C-8911-466C45FD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3A98-3A55-441D-94A5-54708D34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A22F-4285-4E23-9D25-4D4177B6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E05D-523E-4F86-8934-F39996CC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9E06-FC29-4BCA-AB58-DDCB4D34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2D82-1EC2-496B-9726-3FBEC835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731-F867-4A8E-8C8E-1F7BD3BB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895D-1B93-485F-B0BD-AF1970EE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6D0E-A7D7-4571-A346-BB1058ED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C6A5-56B0-47C7-AC9C-E1088C4F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0C61-2CB9-472F-9145-3E6136A0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AAA1-17E6-47DD-8C1E-811C324B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FAC3-6367-447F-8F79-6B3FA0F5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5E1F-1854-4A71-B0C3-72475B5E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C83B0-EF1B-4229-9724-7BF43C1E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353B9-6FA8-4443-AE51-91739DE6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DE7C-9A04-44D3-A554-72E7E51B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2C5-38DC-488A-9350-A3A74E60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152F0-D28B-4731-9B29-7C7735E1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9A01-9C97-4BF0-92D6-B21E8395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DF36-AF3D-41C2-80FB-A9E763BE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54D4C-2837-41DB-8DA9-377BE768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93ACA-A8F8-4AF1-9B8A-7E82CE16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BA57-B1C7-4BD0-8FD9-A68F747A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74B3-1BE1-4BAD-8B5D-FE973F09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82C67-0629-4E11-98A1-FE03E266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2645-4D2D-4119-AD8F-C742D32B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2153-FCA0-477B-A36C-6A3C48B2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233-837C-4FD4-A2E5-D8559E3A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0C33A-9025-4117-A51F-DCBB54AB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D425A-252C-400F-BFBB-B5E63558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6264E-DF4D-4947-A2C7-CE54165A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0D263-5FCC-44EB-8D20-485416B8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E5637-EA8A-4B01-BB50-FBFF22B6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1717B-3F50-4754-8729-ACF415B4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D3889-FD2F-428A-B2EA-22C2ADB3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5873F-7A71-4A05-83EB-7B9280E7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DEDC-4080-42D3-9ABD-BF2EB148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D0CA8-725A-498F-9B1C-120B63CC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E6E-2F9E-4A6E-8646-13E5E3A1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98259-4A09-4C62-81C3-59DF8CB6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8BC61-F163-45D0-8075-F18E8B21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0359A-FC98-4FB2-B268-02CDAA3B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126F6-3AC1-4625-BE9F-E2D0064B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B67D9-6CF8-4393-8E5C-20248444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B30EA-4BE1-44EB-A29E-0D11BD11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B021F-B44D-4DE8-8D28-129D38A8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7C6C1-2785-4600-8719-665A5626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8DD7D-3867-4750-B507-C1F403CF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D2503-20ED-4C43-9122-E7E4D7AF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735-117E-4C77-ACD9-A843C841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3B2D2-A657-405A-8F15-A6594B3A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313E4-68C4-4EB7-AF03-45D27F36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49223-AEFE-479F-B7CB-8CA8EB3C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1B460-9806-48D8-9E36-8D0AC5E3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EA0B0-3122-4953-8B7E-0ABA9A2F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75B7C-AE4A-44F0-B7CB-41794A18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2798B-5AF3-4B0D-AE08-9537419B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519F1-42E6-4DE4-92EF-8E6342AE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6D031-97E9-4D8E-9E3B-5A801400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EF65B-578F-4E5D-B071-0588533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915-3E9E-426D-8A76-E59899C1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26437-7309-4636-86BE-441443B8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FBA56-6213-4FE1-89A3-FF7D93B8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3B8C9-76E3-451D-A917-DF6925F9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91FD5-FEC7-41D3-90B7-5E184EF6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B943B-0B08-42C7-A5EF-613FE4B8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60A5E-E11A-4069-A0A3-FA9E0EF3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DC3B7-26F7-4E5C-88DB-32151567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34018-2C80-4608-BBD5-0F854B5C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BB978-6A54-4A07-8444-828CB514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7E289-7D7B-4626-835E-B773FAE5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532-0A05-464C-9510-34C86806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A63C1-39F2-4A7A-912B-ACCE671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87D75-0A6A-4AF9-9EB7-B375BFA2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2B88B-ABCD-484E-861A-5FD3C8DF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81AAA-B6EF-4508-913F-62419534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5F7A-5D41-40DC-9630-B75901D4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FBBBF-1852-4A60-BD20-52CF86CE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17D28-84B2-43D1-8013-82922512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D805B-3DC1-476E-A08E-A26977A8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645DF-F99E-42D4-AFBA-E2AD41DF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63088-1FEA-425D-BB84-AFEE42E3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449-8927-4719-BE7E-0DC7DBC8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7AC4D-4555-4D0D-84BD-FBC9EE0C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2A590-EEBB-4DA9-B5AA-B6880247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8FDA3-72F7-43A5-963A-5FE28D5D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833BF-D451-4450-A26D-E62E7AF8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F2FFD-3C7D-4AFF-B5FD-BF442D2A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97B3E-D0EF-42DF-B66A-8E32964C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5CB2A-647C-4671-897B-E3380747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081D1-CEEC-47AA-83E7-CBED755F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DFD7F-B013-45BD-8A20-9FDDF62E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27BC4-9154-44E8-899E-7349AEEE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BB406-1D18-41A2-AED5-A334E8118465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89972-0233-4D31-86D3-ED11C02E2577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6127B-AFC6-4862-A786-E018074D149B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A88BF-F14D-4148-A3D2-E935DE083CCC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0824E-A33F-4D20-BE4B-28C5CC16E072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B0461-8873-4C7E-89E7-5B1315AC4DB9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DAAF1-D0B2-49B8-9706-CF173FE3761B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6CE39-03EE-482D-8523-83A03973E1CC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A4CBC-425F-4E44-BA27-714DFD50121E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6A7C8-CEE7-4CF0-9256-145F2A6EB3F2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4D2C2-B780-4946-897D-D2F7E4A247E7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65721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ill Sans MT"/>
              </a:rPr>
              <a:t>FINANČNO POSLOVANJE OŠ STIČNA V LETU 202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d0d0d"/>
                </a:solidFill>
                <a:latin typeface="Gill Sans MT"/>
              </a:rPr>
              <a:t>VIRI ZA NABAVO SREDSTEV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539640" y="119700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Iz sredstev občinskega proračuna – občine Ivančna Gorica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00.438,06 €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94.081,12 € - sanacija prostorov na podružnični šoli Stična – direktno Občina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4.957,20 € - kuhinjska oprema na podružnični šoli Stična –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46.209,91 € - preureditev kleti šole v učilnico na podružnični šoli Zagradec –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8.597,68 € - nova cisterne za kurilno olje na podružnični šoli Višnja Gora  -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6.356,20 € - oprema nove učilnice na podružnični šoli v Zagradcu –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4.593,30 € - oprema učilnice na podružnični šoli Višnja Gora –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199,68 € - računalniška oprema za novi učilnici – Zagradec, Višnja Gor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1.163,47 € - nakup računalniške opreme in ureditev dostopnih točk iz naslova projekta SIO202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279,50 € - obnova varnostne razsvetljave na podružnični šoli Krk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d0d0d"/>
                </a:solidFill>
                <a:latin typeface="Gill Sans MT"/>
              </a:rPr>
              <a:t>VIRI ZA NABAVO SREDSTEV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11280" y="198864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državnega proračuna – MIZŠ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49.479,40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(učila, knjige, učbeniki, strokovna literatura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presežka preteklih let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15.114,71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projekta SIO 2020 (Arnes)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13.267,04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lastnih sredstev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2.490,05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šolskega sklada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5.676,07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d0d0d"/>
                </a:solidFill>
                <a:latin typeface="Gill Sans MT"/>
              </a:rPr>
              <a:t>VIRI ZA NABAVO SREDSTEV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0920" y="1988640"/>
            <a:ext cx="7705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uporabnin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889,39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donacije Spar – knjižnično gradivo za podružnično šolo Ambrus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382,60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tripartitne pogodbe MIZŠ – Arnes – OŠ Stična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7.886,00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Arnes - donacija prenosnih računalnikov za VIZ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12.648,68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Fundacija Rok – donacija prenosnih računalnikov za učence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5.134,36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–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olanje na daljav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ravokotnik 2"/>
          <p:cNvSpPr/>
          <p:nvPr/>
        </p:nvSpPr>
        <p:spPr>
          <a:xfrm>
            <a:off x="684360" y="2708280"/>
            <a:ext cx="770400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z sredstev presežka prihodkov nad odhodki preteklih let, ki so bila namenjena vzdrževalnim delom je bilo  letu 2020 izvedeno akustična izolacija stropa v hodniku na matični šoli v vrednosti 16.896,98 €.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ill Sans MT"/>
              </a:rPr>
              <a:t>VEČJE VZDRŽEVALNO DEL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ravokotnik 2"/>
          <p:cNvSpPr/>
          <p:nvPr/>
        </p:nvSpPr>
        <p:spPr>
          <a:xfrm>
            <a:off x="611280" y="2060640"/>
            <a:ext cx="77770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 letu 2020 je bilo poslovanje Osnovne šole Stična naslednj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HODKI so znašali 6.331.440,64 €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DHODKI  so znašali 6.287.719,78 €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kar pomeni, da je bil ugotovljen presežek prihodkov nad odhodki v vrednosti 43.720,86 €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ravokotnik 2"/>
          <p:cNvSpPr/>
          <p:nvPr/>
        </p:nvSpPr>
        <p:spPr>
          <a:xfrm>
            <a:off x="611280" y="2106720"/>
            <a:ext cx="777708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HODKI so pridobljeni iz več virov, njihova sestava pa je v odstotkih nasledn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ržavni proračun (MIZŠ)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86,53 %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bčinski proračun (občina Iv. Gorica)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6,14 %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spevek starše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4,80 %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ržna dejavnos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0,38 %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stali vir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2,15 %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drugi uporabniki javnih sredstev, Vrtec Iv. G. (plačilo malic na Krki in v Zagradcu)…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ill Sans MT"/>
              </a:rPr>
              <a:t>PRIHODK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2"/>
          <p:cNvSpPr/>
          <p:nvPr/>
        </p:nvSpPr>
        <p:spPr>
          <a:xfrm>
            <a:off x="-1484280" y="-390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13" name="Grafikon 4"/>
          <p:cNvGraphicFramePr/>
          <p:nvPr/>
        </p:nvGraphicFramePr>
        <p:xfrm>
          <a:off x="1042920" y="981000"/>
          <a:ext cx="7662960" cy="51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4" name="Grafikon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81000"/>
                    <a:ext cx="766296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Grafikon 5"/>
          <p:cNvGraphicFramePr/>
          <p:nvPr/>
        </p:nvGraphicFramePr>
        <p:xfrm>
          <a:off x="1278000" y="717480"/>
          <a:ext cx="6872400" cy="4926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6" name="Grafikon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8000" y="717480"/>
                    <a:ext cx="687240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ravokotnik 2"/>
          <p:cNvSpPr/>
          <p:nvPr/>
        </p:nvSpPr>
        <p:spPr>
          <a:xfrm>
            <a:off x="611280" y="2106720"/>
            <a:ext cx="777708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REDSTVA iz državnega proračuna (MIZŠ) so namenjena pokrivanju naslednjih stroškov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lač in prispev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94 %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nih stroš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6 %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materialni stroški v skladu z normativi in standardi, nabava učil in učnih pripomočkov,  izobraževanje delavcev, zdravstveni pregledi zaposlenih, delno pokrivanje ekskurzij učencev, subvencioniranje šolske prehrane, sofinanciranje ene šole v naravi, nabava učbenikov za šolski sklad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ill Sans MT"/>
              </a:rPr>
              <a:t>PRIHODKI IZ DRŽAVNEGA PRORAČU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-1484280" y="-390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20" name="Grafikon 4"/>
          <p:cNvGraphicFramePr/>
          <p:nvPr/>
        </p:nvGraphicFramePr>
        <p:xfrm>
          <a:off x="826920" y="692280"/>
          <a:ext cx="766296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1" name="Grafikon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92280"/>
                    <a:ext cx="766296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Grafikon 5"/>
          <p:cNvGraphicFramePr/>
          <p:nvPr/>
        </p:nvGraphicFramePr>
        <p:xfrm>
          <a:off x="1463760" y="1434960"/>
          <a:ext cx="6543720" cy="4724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3" name="Grafikon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3760" y="1434960"/>
                    <a:ext cx="65437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14520" y="436320"/>
            <a:ext cx="65721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Gill Sans MT"/>
              </a:rPr>
              <a:t>SESTAVA PRIHODKOV DRŽAVNEGA PRORAČUNA – </a:t>
            </a:r>
            <a:br>
              <a:rPr sz="2500"/>
            </a:br>
            <a:r>
              <a:rPr b="0" lang="sl-SI" sz="2000" spc="-1" strike="noStrike">
                <a:solidFill>
                  <a:srgbClr val="000000"/>
                </a:solidFill>
                <a:latin typeface="Gill Sans MT"/>
              </a:rPr>
              <a:t>MINISTRSTVA ZA IZOBRAŽEVANJE, ZNANOST IN ŠPO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ravokotnik 2"/>
          <p:cNvSpPr/>
          <p:nvPr/>
        </p:nvSpPr>
        <p:spPr>
          <a:xfrm>
            <a:off x="755640" y="1854360"/>
            <a:ext cx="777708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REDSTVA iz občinskega proračuna občine Ivančna Gorica so namenjena pokrivanju naslednjih stroškov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nih stroš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9 %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oškov uporabe prostora in opreme – zavarovanje objektov in opreme, elektrika, voda, odvoz smeti, varovanje objekta, vzdrževanje dvigala, kurjava, material in storitve za vzdrževanje prostora, gorivo in stroški vzdrževanja avtomobila za dodatne prevoze učencev – Hyunda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lač in prispevkov za določen delež zaposlenih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1 %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REDSVA ZA PREVOZE UČENCEV V ŠOLO IN IZ ŠOLE PA ZAGOTAVLJA OBČINA DIREKTNO PREKO IZVEDENEGA JAVNEGA NAROČIL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42520" y="804960"/>
            <a:ext cx="6442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Gill Sans MT"/>
              </a:rPr>
              <a:t>PRIHODKI IZ OBČINSKEGA PRORAČUNA – OBČINA IVANČNA GORICA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2"/>
          <p:cNvSpPr/>
          <p:nvPr/>
        </p:nvSpPr>
        <p:spPr>
          <a:xfrm>
            <a:off x="-1484280" y="-390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28" name="Grafikon 4"/>
          <p:cNvGraphicFramePr/>
          <p:nvPr/>
        </p:nvGraphicFramePr>
        <p:xfrm>
          <a:off x="863640" y="692280"/>
          <a:ext cx="766296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9" name="Grafikon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692280"/>
                    <a:ext cx="766296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Grafikon 5"/>
          <p:cNvGraphicFramePr/>
          <p:nvPr/>
        </p:nvGraphicFramePr>
        <p:xfrm>
          <a:off x="1857240" y="1865160"/>
          <a:ext cx="5573880" cy="3918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1" name="Grafikon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1865160"/>
                    <a:ext cx="557388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14520" y="436320"/>
            <a:ext cx="65721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Gill Sans MT"/>
              </a:rPr>
              <a:t>SESTAVA PRIHODKOV OBČINSKEGA PRORAČUNA – </a:t>
            </a:r>
            <a:br>
              <a:rPr sz="2500"/>
            </a:br>
            <a:r>
              <a:rPr b="0" lang="sl-SI" sz="2000" spc="-1" strike="noStrike">
                <a:solidFill>
                  <a:srgbClr val="000000"/>
                </a:solidFill>
                <a:latin typeface="Gill Sans MT"/>
              </a:rPr>
              <a:t>OBČINE IVANČNA GOR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2"/>
          <p:cNvSpPr/>
          <p:nvPr/>
        </p:nvSpPr>
        <p:spPr>
          <a:xfrm>
            <a:off x="-1484280" y="-390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34" name="Grafikon 4"/>
          <p:cNvGraphicFramePr/>
          <p:nvPr/>
        </p:nvGraphicFramePr>
        <p:xfrm>
          <a:off x="1042920" y="981000"/>
          <a:ext cx="7662960" cy="51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Grafikon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81000"/>
                    <a:ext cx="766296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Grafikon 5"/>
          <p:cNvGraphicFramePr/>
          <p:nvPr/>
        </p:nvGraphicFramePr>
        <p:xfrm>
          <a:off x="1136520" y="912960"/>
          <a:ext cx="6389640" cy="4797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7" name="Grafikon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912960"/>
                    <a:ext cx="638964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56:02Z</dcterms:created>
  <dc:creator>Zajc</dc:creator>
  <dc:description/>
  <dc:language>en-US</dc:language>
  <cp:lastModifiedBy>Melita</cp:lastModifiedBy>
  <dcterms:modified xsi:type="dcterms:W3CDTF">2021-03-24T10:16:11Z</dcterms:modified>
  <cp:revision>146</cp:revision>
  <dc:subject/>
  <dc:title>POROČILO  o realizaciji LDN za  šol. l. 2010/2011</dc:title>
</cp:coreProperties>
</file>